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976-C361-421C-A4E9-381D11AE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D58-4C2A-458C-9C16-37F38277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7E8-EE42-4CCF-A138-84544F8E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3CF-0AD1-4541-8785-0A2A600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BA3-7D1B-451F-A0B0-E825508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856-711C-4A0C-8B9B-C43F37A5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AA6-47FA-4C10-BAE0-8207E309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4FC-69EB-44DA-93D4-B332CB6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53E-571E-45DC-89D8-5C094B2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9F8-9CB6-4938-8044-8EB82EF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FB3-57FB-4C08-AECB-4463CB9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7AE-5B17-4A6C-B7C0-B4983B7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4CCC-0888-4F48-8255-7D973237F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(G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943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On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9144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(So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124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124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124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Mi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90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90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4343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114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0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029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2590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1981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816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2971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44956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A mixture of a compound and a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343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4114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5029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76920" y="2590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1981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16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2971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752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1828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n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43434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3886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724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4724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3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0" y="3352680"/>
            <a:ext cx="914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438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895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7242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6 Atoms which happen to be of 3 different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one likes to go round in pairs as a gas </a:t>
            </a:r>
            <a:r>
              <a:rPr b="0" lang="en-GB" sz="2800" spc="-1" strike="noStrike">
                <a:solidFill>
                  <a:srgbClr val="cc0000"/>
                </a:solidFill>
                <a:latin typeface="Trebuchet MS"/>
              </a:rPr>
              <a:t>(molec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nother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mixture of two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86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876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181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18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724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2666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2895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358128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Yes, it also happens to be 2 atoms joined together but we don’t call it “2 atoms joined together” we say it is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2057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20574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Molecule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752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5257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4495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4572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72428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2 molecules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33720" y="3049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about when all the atoms are stuck together like in a solid el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362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526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4495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4419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24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23623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2209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2286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95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572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4419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3049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is just a load of atoms in a solid element, it is not a big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362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004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26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38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4495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4419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76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3623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852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00800" y="2209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2286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95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4572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7280" y="4419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992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3049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Finally, just to confuse you even more, science teachers like talking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1981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rebuchet MS"/>
              </a:rPr>
              <a:t>P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292248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Particle is just a fancy name for individual things.  These individual things could be atoms, molecules, lumps of soil, grains of sand, bits of metal.  It doesn’t matter because particle is just a general word which is used when we don’t (or can’t) want to be exact about the type of things being descri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219320" y="3049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good example of when science teachers use the word particle is when talking about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205740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ir is a mixture of elements such as oxygen, argon and nitrogen mixed with compounds such as 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4114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876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4876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15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181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943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5486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4419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586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5486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5486400"/>
            <a:ext cx="990720" cy="990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295280" y="533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Some of the elements in air go around as single atoms (such as arg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800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86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24680" y="838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2895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Or as molecules such as oxygen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495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Compounds go around as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8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4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9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8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8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295280" y="1676520"/>
            <a:ext cx="63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at’s why we talk about particles because it saves the bother of describing exactly what sort of things the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is is not a mixture, it is a COMPOUND of two different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04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is just a mixture of two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286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257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181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18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724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657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715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76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029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638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6324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352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267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4495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648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352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267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4495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4648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Mi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9:21:55Z</dcterms:created>
  <dc:creator/>
  <dc:description/>
  <dc:language>en-US</dc:language>
  <cp:lastModifiedBy>BS</cp:lastModifiedBy>
  <dcterms:modified xsi:type="dcterms:W3CDTF">2003-01-29T16:55:52Z</dcterms:modified>
  <cp:revision>12</cp:revision>
  <dc:subject/>
  <dc:title>PowerPoint Presentation</dc:title>
</cp:coreProperties>
</file>